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D95-CAC6-42CA-921E-51636D69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803-A1D8-48FA-B567-5C0D68A1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877-8138-4A48-9267-7EA5E2AC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52B-DA15-430C-9619-4C5C4CF7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D24-1E81-4359-9B3B-9F2DA088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8E7-0B98-42B2-89F4-F7D17D23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A9C-70D3-45D5-A8FA-663AE2EB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FC3-28D4-4C39-97C2-22F32879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8DF-08C9-48FE-8B60-1ADF91C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397-6A07-4C7A-B6AB-A037DFF2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9D6-E290-44C9-BFF0-64E2E55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9D3-34B6-4CF3-95D0-78F3F32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AD66-B875-4714-A4DA-BBE48BC04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يصنع العجائ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ن طلبت تكريسي هل يستجيب الطل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5240" y="0"/>
            <a:ext cx="72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قّدس ذا الجس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95280" y="609480"/>
            <a:ext cx="58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 ضعفه وإثمه به يحلّ للمد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640" y="0"/>
            <a:ext cx="70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شغل مواه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615600" y="60948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ّساً عواطفي لمجد من أحب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40160" y="0"/>
            <a:ext cx="75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بارك في خدم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56840" y="609480"/>
            <a:ext cx="57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ّساً لمجده كلّي له بجمل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0:40Z</dcterms:modified>
  <cp:revision>4</cp:revision>
  <dc:subject/>
  <dc:title>PowerPoint Presentation</dc:title>
</cp:coreProperties>
</file>